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AFEBE-8A86-4C3C-B9AC-5249D95D4E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23120-28F4-45C7-9F2F-517CBD78A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F49F4-91ED-4501-9858-B937B60B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0FC87-74FB-41BC-8D39-F8096833E4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1641C-8AA4-47C4-9B90-965EE63BA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2281C-7FA1-455F-8C40-0E0541AA8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9CC1A-A60F-44F9-9EE9-1DBF1BE42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9C4E5-EB2B-4A35-A062-7295E1743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A047C-F732-4D23-B824-62435D688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B343A-E022-44C0-B01C-152D03DB0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8787F-043D-4662-AF54-BE43570A3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73FF5-4D1C-4687-ABD7-7BFEB11C4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D65BF-CA98-4C66-B1E2-0072B0AF7D1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6560" y="2781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三节  脱水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护理评估要点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脱水的严重程度及临床特点：起病时间、体重下降程度、出入量、生命体征、皮肤弹性、眼窝凹陷及静脉充盈情况、有无意识障碍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病因及诱发因素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对患者的影响  重点评估有无血容量不足及中枢神经功能受损的表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24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诊断、治疗和护理经过 </a:t>
            </a:r>
            <a:r>
              <a:rPr b="1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37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相关护理诊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体液不足 与液体摄入不足或丢失过多有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潜在并发症：意识障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rcRect l="0" t="18179" r="0" b="9089"/>
          <a:stretch/>
        </p:blipFill>
        <p:spPr>
          <a:xfrm>
            <a:off x="3060720" y="4510080"/>
            <a:ext cx="2589120" cy="18842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659800" cy="50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识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基本概念；高渗性、低渗性和等渗性脱水的判断标准和临床主要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理解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解释人体体液调节机制；说出引起脱水的常见病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能够对患者作出全面准确的护理评估，并提出护理诊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脱水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定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指体液丢失致使体液容量不足、细胞外液明显减少而引起的一组临床症候群，严重时会导致虚脱，甚至危及生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分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根据血钠浓度和血浆胶体渗透压的不同将脱水分为高渗性脱水、低渗性脱水和等渗性脱水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种类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高渗性脱水 “原发性缺水”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失水多于失钠，血清钠＞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50mmol/L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血浆渗透压＞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10mOsm/L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主要见于水摄入不足、水丢失过多：包括经胃肠道失水过多、经呼吸道和皮肤失水过多、经肾失水过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低渗性脱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水和钠同时缺失，失钠多于失水，血清钠浓度＜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30mmol/L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血浆渗透压＜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80mOsm/L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细胞外液呈低渗状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常见病因：肾失水失钠过多，如长期使用排钠利尿剂；高渗或等渗失水治疗过程中只注重补水而忽视补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等渗性脱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水和钠成比例丢失，血清钠浓度在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30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45mmol/L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血浆渗透压保持在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80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10mOsm/L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细胞外液呈等渗状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常见病因：消化液的急性丧失，如急性腹泻、剧烈呕吐，肠瘘等；大面积烧伤；反复大量放胸腔或腹腔积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82278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高渗性脱水：根据体重下降分为</a:t>
            </a: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度</a:t>
            </a:r>
            <a:endParaRPr b="1" lang="en-US" sz="3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95280" y="1917720"/>
          <a:ext cx="8280360" cy="4603680"/>
        </p:xfrm>
        <a:graphic>
          <a:graphicData uri="http://schemas.openxmlformats.org/drawingml/2006/table">
            <a:tbl>
              <a:tblPr/>
              <a:tblGrid>
                <a:gridCol w="1041480"/>
                <a:gridCol w="1485720"/>
                <a:gridCol w="5753160"/>
              </a:tblGrid>
              <a:tr h="117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分度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体重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下降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临床表现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轻度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%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%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口渴、乏力、皮肤黏膜干燥、直立性低血压、尿量减少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中度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%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%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皮肤弹性下降、眼窝深陷、心悸、血压下降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重度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＞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%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循环衰竭和中枢功能受损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: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少尿、血压↓、谵妄、嗜睡、昏迷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低渗性脱水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早期即有低钠血症表现如手足麻木、恶心、呕吐等，尿比重降低；血容量明显不足，出现脉搏细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重度低钠血症可导致脑细胞水肿而出现意识障碍；皮肤弹性明显下降、黏膜干燥、眼窝深陷等脱水貌较为明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等渗性脱水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早期或轻症者无明显口渴感，血容量不足的临床表现出现较早；细胞外液容量严重减少时，可出现血压下降、现脉搏细速、肢端湿冷、休克甚至肾衰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rcRect l="0" t="0" r="-344" b="5704"/>
          <a:stretch/>
        </p:blipFill>
        <p:spPr>
          <a:xfrm>
            <a:off x="3924360" y="4437000"/>
            <a:ext cx="2103480" cy="19764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cp:keywords/>
  <dc:language>en-US</dc:language>
  <cp:lastModifiedBy>赵欣</cp:lastModifiedBy>
  <dcterms:modified xsi:type="dcterms:W3CDTF">2015-12-16T07:34:31Z</dcterms:modified>
  <cp:revision>77</cp:revision>
  <dc:subject/>
  <dc:title>内科护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3</vt:lpwstr>
  </property>
</Properties>
</file>